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7F2F-5F45-4E9F-A03B-F76F8CD723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A039-7358-4B82-B5BF-594DFC624D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E2FE-E2DB-464B-8FCD-324CE8363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B81-545D-4B0B-9655-7022D734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CFD-7E60-4C0C-AFE6-2E36E858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B5D-580D-482F-B682-4D068029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AD2-8191-4861-8564-64E727B8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759D-C6CF-4FFB-8B22-F5FEC02C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C401-ECC2-47F9-BA84-0CC64FEF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BFCA-DA4A-43A1-B712-7FE36135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31D2-ED08-4A35-9309-E8B687C5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B3B3-D921-4755-AE99-EE3EE1CC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19B8-A336-445A-91A4-687A051C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12DF-4B22-4205-A61E-82B9447B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16B-2D15-44FA-8761-CB9EC702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6C50-0799-44B6-A03A-6D949E11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19D0-68B3-45CC-914E-9C9C8709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511B-F8BC-4BF7-9196-A60E30C6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83C7-B802-4A1F-89C7-AA51D0BB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B6B7-F582-4D09-B149-AF715992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5EABC-4E6F-44B2-B26A-81B1DE5E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7D679-7A9C-4F0E-B3DC-B06A5C17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A015B-836A-4AC0-97CB-8B12DF95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3445E-02D2-4672-B886-7C1190DC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AA0AA-C0B0-45D0-95E2-831AACCC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CB4-1094-4C81-BB37-0D3BFD76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C701B-E8B3-477A-A0ED-C3A5CF45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2B0EB-B4CE-41D8-8317-AC2A418C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228E0-B271-41E1-AB4E-2EE0CF2E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56ADE-CCA0-4B7A-BC88-2B7F2C2F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DA10D-BACA-427E-AD30-B74005AC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EA95B-1FE7-48AF-AA45-917A470D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0F30F-1EAD-46A5-A957-83AA850D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06F85-0313-4ABF-B09D-FBA70C9B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C4481-6A10-46A7-BC5C-F855ACA5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E928A-A1B0-4D43-9D25-99985010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24E-F61D-4352-AE38-E74937A7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0F5E4-6845-4E02-84ED-65859D87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73EB0-A0CB-44BC-8B6C-25F55F78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45480-8524-47BF-A9C6-F25C5220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F7730-EC9C-4316-BAAF-64AE9980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8C165-A789-4C73-82FC-0EF59289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B7C91-30B9-432C-B1ED-1AFB6926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84863-F868-441A-B3B7-D787FA04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314FC-8E57-4C27-933F-49127A19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9341A-92FE-48DB-A5A2-F39CEFF9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4F8-E87E-4EDA-ADD3-3E8F71D4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3C8-8D05-4D2B-AF28-A96CD11E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425-37F7-4BFB-A918-92360E61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C7E-9231-4B7E-836A-28C43BF5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A87-4671-4064-BD7B-283CF299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504d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51C0-C65F-4540-AC35-C68747609F7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0504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504d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9D14-7E38-402C-A7A6-0593FF7B4DD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504d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EA21-4614-4D09-B3D1-7182649ED15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504d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7857-37D6-4137-A2F5-F0BFB5B47AA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200720" cy="5040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eorgia"/>
              </a:rPr>
              <a:t>Символы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Georgia"/>
              </a:rPr>
              <a:t>Российского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Georgia"/>
              </a:rPr>
              <a:t>государства</a:t>
            </a:r>
            <a:endParaRPr b="0" lang="en-US" sz="5400" spc="-1" strike="noStrike">
              <a:solidFill>
                <a:srgbClr val="1f497d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42160" cy="720720"/>
          </a:xfrm>
          <a:prstGeom prst="rect">
            <a:avLst/>
          </a:prstGeom>
          <a:solidFill>
            <a:srgbClr val="8eb4e3"/>
          </a:solidFill>
          <a:ln w="2844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Georgia"/>
              </a:rPr>
              <a:t>Флаги Российского государства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257" name="Picture 6" descr="C:\Users\Пользователь\Pictures\Рисунок13.jpg"/>
          <p:cNvPicPr/>
          <p:nvPr/>
        </p:nvPicPr>
        <p:blipFill>
          <a:blip r:embed="rId1"/>
          <a:stretch/>
        </p:blipFill>
        <p:spPr>
          <a:xfrm>
            <a:off x="2556000" y="2708280"/>
            <a:ext cx="400356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42160" cy="720720"/>
          </a:xfrm>
          <a:prstGeom prst="rect">
            <a:avLst/>
          </a:prstGeom>
          <a:solidFill>
            <a:srgbClr val="8eb4e3"/>
          </a:solidFill>
          <a:ln w="2844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Georgia"/>
              </a:rPr>
              <a:t>Флаги Российского государства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250920" y="2565360"/>
            <a:ext cx="8642160" cy="3660120"/>
          </a:xfrm>
          <a:prstGeom prst="rect">
            <a:avLst/>
          </a:prstGeom>
          <a:solidFill>
            <a:srgbClr val="dce6f2"/>
          </a:solidFill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10 бал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Что означает слово «флаг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20 бал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Каким был флаг Советского Союз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3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Когда в России появился государственный бело-сине-красный флаг? При каком правите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4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Образцом при создании трехцветного флага России послужил флаг одного из европейских государств. Как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5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С какого времени в России отмечается День Российского фла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42160" cy="720720"/>
          </a:xfrm>
          <a:prstGeom prst="rect">
            <a:avLst/>
          </a:prstGeom>
          <a:solidFill>
            <a:srgbClr val="d99694"/>
          </a:solidFill>
          <a:ln w="2844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Georgia"/>
              </a:rPr>
              <a:t>Гимны Российского государства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261" name="anthem_1918_intr_vocal_mnchr.mp3" descr=""/>
          <p:cNvPicPr/>
          <p:nvPr/>
        </p:nvPicPr>
        <p:blipFill>
          <a:blip r:embed="rId1"/>
          <a:stretch/>
        </p:blipFill>
        <p:spPr>
          <a:xfrm>
            <a:off x="7308720" y="350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5"/>
          <p:cNvSpPr/>
          <p:nvPr/>
        </p:nvSpPr>
        <p:spPr>
          <a:xfrm>
            <a:off x="971640" y="2708280"/>
            <a:ext cx="5761080" cy="3448080"/>
          </a:xfrm>
          <a:prstGeom prst="rect">
            <a:avLst/>
          </a:prstGeom>
          <a:solidFill>
            <a:srgbClr val="f2dcdb"/>
          </a:solidFill>
          <a:ln w="284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10 балл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Что означает слово «гимн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20 балл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«Весь мир насилья мы разруш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До основанья. А за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Мы наш, мы новый мир постро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Кто был ничем, тот станет все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Какое название носил этот гимн, принятый после революции 1917 года?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696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42160" cy="720720"/>
          </a:xfrm>
          <a:prstGeom prst="rect">
            <a:avLst/>
          </a:prstGeom>
          <a:solidFill>
            <a:srgbClr val="d99694"/>
          </a:solidFill>
          <a:ln w="93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Georgia"/>
              </a:rPr>
              <a:t>Гимны Российского государства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264" name="Picture 1" descr=""/>
          <p:cNvPicPr/>
          <p:nvPr/>
        </p:nvPicPr>
        <p:blipFill>
          <a:blip r:embed="rId1"/>
          <a:stretch/>
        </p:blipFill>
        <p:spPr>
          <a:xfrm>
            <a:off x="5292720" y="2687760"/>
            <a:ext cx="2879640" cy="376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5" name="Прямоугольник 5"/>
          <p:cNvSpPr/>
          <p:nvPr/>
        </p:nvSpPr>
        <p:spPr>
          <a:xfrm>
            <a:off x="971640" y="2708280"/>
            <a:ext cx="3600360" cy="3753000"/>
          </a:xfrm>
          <a:prstGeom prst="rect">
            <a:avLst/>
          </a:prstGeom>
          <a:solidFill>
            <a:srgbClr val="f2dcdb"/>
          </a:solidFill>
          <a:ln w="284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30 баллов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«Россия – священная наша держа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Россия – любимая наша стр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Могучая воля, великая слав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Твое достоянье на все времена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Когда был утвержден текст этого гим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Gimn_Russia.mp3" descr=""/>
          <p:cNvPicPr/>
          <p:nvPr/>
        </p:nvPicPr>
        <p:blipFill>
          <a:blip r:embed="rId2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4176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42160" cy="720720"/>
          </a:xfrm>
          <a:prstGeom prst="rect">
            <a:avLst/>
          </a:prstGeom>
          <a:solidFill>
            <a:srgbClr val="d99694"/>
          </a:solidFill>
          <a:ln w="93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Georgia"/>
              </a:rPr>
              <a:t>Гимны Российского государства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971640" y="2708280"/>
            <a:ext cx="5761080" cy="3185640"/>
          </a:xfrm>
          <a:prstGeom prst="rect">
            <a:avLst/>
          </a:prstGeom>
          <a:solidFill>
            <a:srgbClr val="f2dcdb"/>
          </a:solidFill>
          <a:ln w="284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40 бал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«Союз нерушимый республик свобод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Сплотила навеки Великая Ру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Да здравствует созданный волей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Единый, могучий Советский Союз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Кто является автором музыки и слов гимна, утвержденного в 1944 год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anthem_1977_ussr_vocin_offic.mp3" descr=""/>
          <p:cNvPicPr/>
          <p:nvPr/>
        </p:nvPicPr>
        <p:blipFill>
          <a:blip r:embed="rId1"/>
          <a:stretch/>
        </p:blipFill>
        <p:spPr>
          <a:xfrm>
            <a:off x="7956720" y="4005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8000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42160" cy="720720"/>
          </a:xfrm>
          <a:prstGeom prst="rect">
            <a:avLst/>
          </a:prstGeom>
          <a:solidFill>
            <a:srgbClr val="d99694"/>
          </a:solidFill>
          <a:ln w="93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Georgia"/>
              </a:rPr>
              <a:t>Гимны Российского государства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71280" y="2707920"/>
            <a:ext cx="5761080" cy="3600360"/>
          </a:xfrm>
          <a:prstGeom prst="rect">
            <a:avLst/>
          </a:prstGeom>
          <a:solidFill>
            <a:srgbClr val="f2dcdb"/>
          </a:solidFill>
          <a:ln w="28440">
            <a:solidFill>
              <a:srgbClr val="953735"/>
            </a:solidFill>
            <a:miter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50 баллов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Боже, царя храни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ильный, державный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арствуй на славу нам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арствуй на страх врагам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арь православны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оже, царя храни!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то был автором первого гимна России, написанного в 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XIX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 веке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50920" y="2707920"/>
            <a:ext cx="8642160" cy="3600360"/>
          </a:xfrm>
          <a:prstGeom prst="rect">
            <a:avLst/>
          </a:prstGeom>
          <a:solidFill>
            <a:srgbClr val="dce6f2"/>
          </a:solidFill>
          <a:ln w="28440">
            <a:solidFill>
              <a:srgbClr val="4f81bd"/>
            </a:solidFill>
            <a:miter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еред учащимися таблица с секторами по определенным разделам: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гимны, гербы, флаги Российского государства. Каждый раздел включает в себя 5 вопросов различной степени сложности (от 10 до 50 баллов)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Команды имеют право выбора темы и стоимости вопроса. Вопросы по разделам выбираются командами по очереди (вне зависимости от того, правильный ответ дан или нет). В случае верного ответа команда получает количество баллов, соответствующее стоимости вопроса. Если дан неправильный ответ – аналогичная сумма баллов  снимается. Право ответа на этот вопрос переходит к следующей команд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Если члены команд не могут дать правильный ответ на вопрос, в игру вступают зрители - учащиеся 5-6 классов, не вошедшие в состав команд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92360" y="1268280"/>
            <a:ext cx="5759280" cy="720720"/>
          </a:xfrm>
          <a:prstGeom prst="rect">
            <a:avLst/>
          </a:prstGeom>
          <a:solidFill>
            <a:srgbClr val="dce6f2"/>
          </a:solidFill>
          <a:ln w="28440">
            <a:solidFill>
              <a:srgbClr val="376092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Georgia"/>
              </a:rPr>
              <a:t>Правила игры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250920" y="1268280"/>
          <a:ext cx="8640720" cy="4969080"/>
        </p:xfrm>
        <a:graphic>
          <a:graphicData uri="http://schemas.openxmlformats.org/drawingml/2006/table">
            <a:tbl>
              <a:tblPr/>
              <a:tblGrid>
                <a:gridCol w="2741400"/>
                <a:gridCol w="1081080"/>
                <a:gridCol w="1162080"/>
                <a:gridCol w="1246320"/>
                <a:gridCol w="1246320"/>
                <a:gridCol w="11635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Симво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Гербы Российского государ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Фла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Российского государ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Гимны Российского государ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42160" cy="720720"/>
          </a:xfrm>
          <a:prstGeom prst="rect">
            <a:avLst/>
          </a:prstGeom>
          <a:solidFill>
            <a:srgbClr val="f2dcdb"/>
          </a:solidFill>
          <a:ln w="28440">
            <a:solidFill>
              <a:srgbClr val="95373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Georgia"/>
              </a:rPr>
              <a:t>Гербы Российского государства</a:t>
            </a:r>
            <a:br>
              <a:rPr sz="3600"/>
            </a:b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239" name="Picture 5" descr="C:\Users\Пользователь\Pictures\Рисунок10.jpg"/>
          <p:cNvPicPr/>
          <p:nvPr/>
        </p:nvPicPr>
        <p:blipFill>
          <a:blip r:embed="rId1"/>
          <a:stretch/>
        </p:blipFill>
        <p:spPr>
          <a:xfrm>
            <a:off x="971640" y="2708280"/>
            <a:ext cx="2948040" cy="3635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:\Users\Пользователь\Pictures\Рисунок11.jpg"/>
          <p:cNvPicPr/>
          <p:nvPr/>
        </p:nvPicPr>
        <p:blipFill>
          <a:blip r:embed="rId2"/>
          <a:stretch/>
        </p:blipFill>
        <p:spPr>
          <a:xfrm>
            <a:off x="4572000" y="2708280"/>
            <a:ext cx="35370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42160" cy="720720"/>
          </a:xfrm>
          <a:prstGeom prst="rect">
            <a:avLst/>
          </a:prstGeom>
          <a:solidFill>
            <a:srgbClr val="f2dcdb"/>
          </a:solidFill>
          <a:ln w="28440">
            <a:solidFill>
              <a:srgbClr val="95373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Georgia"/>
              </a:rPr>
              <a:t>Гербы Российского государства</a:t>
            </a:r>
            <a:br>
              <a:rPr sz="3600"/>
            </a:b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242" name="Picture 6" descr="C:\Users\Пользователь\Pictures\Рисунок10.jpg"/>
          <p:cNvPicPr/>
          <p:nvPr/>
        </p:nvPicPr>
        <p:blipFill>
          <a:blip r:embed="rId1"/>
          <a:stretch/>
        </p:blipFill>
        <p:spPr>
          <a:xfrm>
            <a:off x="250920" y="2421000"/>
            <a:ext cx="2685960" cy="3219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C:\Users\Пользователь\Pictures\Рисунок10.jpg"/>
          <p:cNvPicPr/>
          <p:nvPr/>
        </p:nvPicPr>
        <p:blipFill>
          <a:blip r:embed="rId2"/>
          <a:stretch/>
        </p:blipFill>
        <p:spPr>
          <a:xfrm>
            <a:off x="3348000" y="2708280"/>
            <a:ext cx="2495520" cy="3219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Пользователь\Pictures\Рисунок11.jpg"/>
          <p:cNvPicPr/>
          <p:nvPr/>
        </p:nvPicPr>
        <p:blipFill>
          <a:blip r:embed="rId3"/>
          <a:stretch/>
        </p:blipFill>
        <p:spPr>
          <a:xfrm>
            <a:off x="6227640" y="2997360"/>
            <a:ext cx="2686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42160" cy="720720"/>
          </a:xfrm>
          <a:prstGeom prst="rect">
            <a:avLst/>
          </a:prstGeom>
          <a:solidFill>
            <a:srgbClr val="f2dcdb"/>
          </a:solidFill>
          <a:ln w="28440">
            <a:solidFill>
              <a:srgbClr val="95373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Georgia"/>
              </a:rPr>
              <a:t>Гербы Российского государства</a:t>
            </a:r>
            <a:br>
              <a:rPr sz="3600"/>
            </a:b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246" name="Picture 5" descr="C:\Users\Пользователь\Pictures\Рисунок10.jpg"/>
          <p:cNvPicPr/>
          <p:nvPr/>
        </p:nvPicPr>
        <p:blipFill>
          <a:blip r:embed="rId1"/>
          <a:stretch/>
        </p:blipFill>
        <p:spPr>
          <a:xfrm>
            <a:off x="684360" y="2708280"/>
            <a:ext cx="3713040" cy="3836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C:\Users\Пользователь\Pictures\Рисунок11.jpg"/>
          <p:cNvPicPr/>
          <p:nvPr/>
        </p:nvPicPr>
        <p:blipFill>
          <a:blip r:embed="rId2"/>
          <a:stretch/>
        </p:blipFill>
        <p:spPr>
          <a:xfrm>
            <a:off x="5292720" y="2708280"/>
            <a:ext cx="31957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2565000"/>
            <a:ext cx="8642160" cy="4103640"/>
          </a:xfrm>
          <a:prstGeom prst="rect">
            <a:avLst/>
          </a:prstGeom>
          <a:solidFill>
            <a:srgbClr val="fdeada"/>
          </a:solidFill>
          <a:ln w="28440">
            <a:solidFill>
              <a:srgbClr val="984807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10 баллов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Когда появился первый государственный герб России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20 баллов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С именем этого правителя связано появление нового символа государства – двуглавого орл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30 балл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а гербе РСФСР и СССР имеются одинаковые надписи – девизы. Назовите и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40 балл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Какой символ в гербе указывает на то, что Москва – столица России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50 балл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Что означают в российском гербе скипетр и держава, находящиеся в лапах двуглавого орла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Заголовок 1"/>
          <p:cNvSpPr/>
          <p:nvPr/>
        </p:nvSpPr>
        <p:spPr>
          <a:xfrm>
            <a:off x="250920" y="1268280"/>
            <a:ext cx="8642160" cy="720720"/>
          </a:xfrm>
          <a:prstGeom prst="rect">
            <a:avLst/>
          </a:prstGeom>
          <a:solidFill>
            <a:srgbClr val="f2dcdb"/>
          </a:solidFill>
          <a:ln w="284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3600" spc="-1" strike="noStrike">
                <a:solidFill>
                  <a:srgbClr val="1f497d"/>
                </a:solidFill>
                <a:latin typeface="Georgia"/>
              </a:rPr>
              <a:t>Гербы Российского государ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42160" cy="720720"/>
          </a:xfrm>
          <a:prstGeom prst="rect">
            <a:avLst/>
          </a:prstGeom>
          <a:solidFill>
            <a:srgbClr val="8eb4e3"/>
          </a:solidFill>
          <a:ln w="2844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Georgia"/>
              </a:rPr>
              <a:t>Флаги Российского государства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251" name="Picture 5" descr="C:\Users\Пользователь\Pictures\Рисунок11.jpg"/>
          <p:cNvPicPr/>
          <p:nvPr/>
        </p:nvPicPr>
        <p:blipFill>
          <a:blip r:embed="rId1"/>
          <a:stretch/>
        </p:blipFill>
        <p:spPr>
          <a:xfrm>
            <a:off x="250920" y="2708280"/>
            <a:ext cx="3816360" cy="3313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C:\Users\Пользователь\Pictures\Рисунок11.jpg"/>
          <p:cNvPicPr/>
          <p:nvPr/>
        </p:nvPicPr>
        <p:blipFill>
          <a:blip r:embed="rId2"/>
          <a:stretch/>
        </p:blipFill>
        <p:spPr>
          <a:xfrm>
            <a:off x="4859280" y="2708280"/>
            <a:ext cx="40528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42160" cy="720720"/>
          </a:xfrm>
          <a:prstGeom prst="rect">
            <a:avLst/>
          </a:prstGeom>
          <a:solidFill>
            <a:srgbClr val="8eb4e3"/>
          </a:solidFill>
          <a:ln w="2844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Georgia"/>
              </a:rPr>
              <a:t>Флаги Российского государства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254" name="Picture 6" descr="C:\Users\Пользователь\Pictures\Рисунок12.jpg"/>
          <p:cNvPicPr/>
          <p:nvPr/>
        </p:nvPicPr>
        <p:blipFill>
          <a:blip r:embed="rId1"/>
          <a:stretch/>
        </p:blipFill>
        <p:spPr>
          <a:xfrm>
            <a:off x="250920" y="2708280"/>
            <a:ext cx="3975120" cy="2610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C:\Users\Пользователь\Pictures\Рисунок11.jpg"/>
          <p:cNvPicPr/>
          <p:nvPr/>
        </p:nvPicPr>
        <p:blipFill>
          <a:blip r:embed="rId2"/>
          <a:stretch/>
        </p:blipFill>
        <p:spPr>
          <a:xfrm>
            <a:off x="4932360" y="2637000"/>
            <a:ext cx="39607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6:43:26Z</dcterms:created>
  <dc:creator>Пользователь</dc:creator>
  <dc:description/>
  <dc:language>en-US</dc:language>
  <cp:lastModifiedBy>Vladislav.Kulakov</cp:lastModifiedBy>
  <dcterms:modified xsi:type="dcterms:W3CDTF">2011-05-10T11:16:27Z</dcterms:modified>
  <cp:revision>31</cp:revision>
  <dc:subject/>
  <dc:title>Слайд 1</dc:title>
</cp:coreProperties>
</file>